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66717"/>
        <c:axId val="91081075"/>
      </c:barChart>
      <c:catAx>
        <c:axId val="81766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81075"/>
        <c:crosses val="autoZero"/>
        <c:auto val="1"/>
        <c:lblAlgn val="ctr"/>
        <c:lblOffset val="100"/>
        <c:noMultiLvlLbl val="0"/>
      </c:catAx>
      <c:valAx>
        <c:axId val="91081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66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D53-B956-4890-8EEF-ECC3CE15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92D-38C9-4C96-8C49-6B1AE064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326-A624-42C0-9E9D-508049EA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FD0-6581-44B0-B381-5CD6DA3D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306-47DE-4A76-892B-FE1FF430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497-CB88-40CA-ABAD-23E57106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D466-BE5C-45DC-84A1-487B3FF3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79E-EFFF-40BA-A5CB-4BA5307D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C28-79A9-493A-9695-CB165945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0D5-4787-45E8-9181-B9D63697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B99-A755-410B-A435-9FF4843D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D3B-BD5D-40FE-92C7-C9AF4C16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39D90-C7F5-4843-A111-FABA5E0861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